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63F-5B69-45CF-9C45-0E1EED78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A33-3BCA-4905-B9C8-D6AA947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295-8673-4E3F-9BDC-6FA8C684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E9B-4348-4C35-B386-5732B660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0EC-4505-4E4C-B714-1551CBF4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F9E-2CB1-4B9A-A5DB-24C1E40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7CF-E1EE-4B9C-B034-B0F12A9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BC2-0946-4D72-BE82-47B90507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C8D-4217-46E6-B1AB-E2D6DD1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4AA-AF52-4233-A8EA-80C15436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F49-31E9-4606-86A0-E3924EF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032-2181-4D99-A45B-D18E165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577-649F-465D-9E8C-8138D1D0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ilserve.com/JJHill.html" TargetMode="External"/><Relationship Id="rId2" Type="http://schemas.openxmlformats.org/officeDocument/2006/relationships/hyperlink" Target="http://www.railserve.com/JJHill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francis.edu/ba/ghkickul/stuwebs/bbios/biograph/vanderbi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s during 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de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98176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osh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J. 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e builder who started with nothing but a vision of the future. It was this vision that made him special and different from others involved i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ll built a population around his rail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ailserve.com/JJHill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ius Vanderb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ius was born May 27, 1794 and died January 4, 18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rbilt got his nickname “Commodore” being in command of the largest schooner on the Hudson 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ing the age of 70, he decided once again that the future was going in another direction building a railroad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railroad he acquired was the New York and Harlem rail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railroad he acquired the rundown Hudson River railroad, which he wanted to consolidate with the Har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d the Central Railroad in 1867, merged with the Hudson River Railroad by legislative act, and leased the Harlem to the new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nally hit a snag in 1867 when he attempted to gain control of the Erie Railroad then in the hands of his old adversary, Daniel Dr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francis.edu/ba/ghkickul/stuwebs/bbios/biograph/vanderb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 building boomed after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thousand miles of track in 1850 by 1877 eighty thousand miles were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39:08Z</dcterms:created>
  <dc:creator>jbrown</dc:creator>
  <dc:description/>
  <dc:language>en-US</dc:language>
  <cp:lastModifiedBy>jbrown</cp:lastModifiedBy>
  <dcterms:modified xsi:type="dcterms:W3CDTF">2008-10-15T16:22:11Z</dcterms:modified>
  <cp:revision>11</cp:revision>
  <dc:subject/>
  <dc:title>Railroads during the G</dc:title>
</cp:coreProperties>
</file>